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F40B-34EB-465F-8653-4CA24A03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A544-3597-48BA-B4FA-F4314B24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E077-9AC0-401B-8A5E-16669AFD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3864-2B84-42C4-896A-55646D60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EDA-32C6-4D53-B21B-271BDAA2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CC55-7874-43F9-BB3B-5345CD8E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6DD-033E-498E-8C66-4A20DC6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A18C-B9AA-43F0-A226-8C0ED4D9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72C-3D1F-4C2D-975B-B73957A3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4AD7-C6A6-40F8-9902-80A2914C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8B07-6342-46F1-8FC5-A010054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4ABC-515E-4ED8-8943-81B0384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16E1-7223-4E24-A8A7-E93A64C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09EF-099E-4BF4-80F8-D3C60F4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CC66-B1BF-44ED-8FCC-7DB94E8C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67DC-BF69-4464-998C-D16A08E6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15B2-87DC-422A-82D1-22365A65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B78C-95EC-41B4-B96C-7F4FA22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3AC6-C825-41FF-8D33-986B533F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1622-7085-4DF5-B1A9-3EEF603A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131A-9E66-4E2B-B5E8-FC95234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AA14-412A-4602-8DAA-4524784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F8E5-8BBA-4CCB-A958-DC4B76E6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F590-AF2E-4D71-8AC5-901B220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90F-9883-4EE0-A64C-65FE1FFF4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30E9-69F9-427E-8171-2E75957535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ynamic Voltage Scaling Using Both Headers and Foot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yle Craig and Roy Matth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E 6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Body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Study of DVS with Headers and Fo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for using both headers and footers for leakage control (similar to MTCM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VS system trades area for power savings and designing for headers and footers created additional complex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uch a system would allow for more knobs, to give designers more options when weighing power, delay, and area consid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research has addressed the power savings method known as Dynamic Voltage Scaling (DVS) to a system and attempt to apply the use of both headers and footers 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design is a crucial area of VLSI research and quadratic power savings can be achieved by voltage reduction, using the following formul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y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aC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S allows us to take advantage of this power sav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performed simulations using a DVS system of headers and footers on a 32-bit Kogge-Stone Adder using the 65nm TT P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ge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09680" y="1371600"/>
          <a:ext cx="5105520" cy="42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1055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between power and delay is shown above.  Tradeoffs must be considered when implementing a DV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278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735360"/>
            <a:ext cx="4648320" cy="3122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029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952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1206360"/>
            <a:ext cx="396216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power gates to a system will cause an increase in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nd footers must be sized appropriately to achieve an established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e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 50% decrease in header width, a 1.1% delay increase and 40% power re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S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50% decrease in footer width yields a 1.5% increase in delay and 13% reduction in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914400"/>
            <a:ext cx="4800600" cy="28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43400" y="3757680"/>
            <a:ext cx="4800600" cy="31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6272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86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410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438280"/>
            <a:ext cx="396216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header sizing f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that larger headers are required to achieve a similar delay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fore, if we us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duce width by 50%, the delay increases by 2.1% and the power decreases by 4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038480"/>
            <a:ext cx="82296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rmalized delay can be seen here against total power for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time and width combination meeting our delay constraint of 10% is highligh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case without headers showed a power of 2.71mW, so every case here saves som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otal power is calculated here as the sum of the rail recovery power and the power for the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295280"/>
          <a:ext cx="8229600" cy="2579760"/>
        </p:xfrm>
        <a:graphic>
          <a:graphicData uri="http://schemas.openxmlformats.org/drawingml/2006/table">
            <a:tbl>
              <a:tblPr/>
              <a:tblGrid>
                <a:gridCol w="1463760"/>
                <a:gridCol w="950760"/>
                <a:gridCol w="951120"/>
                <a:gridCol w="1001520"/>
                <a:gridCol w="1295280"/>
                <a:gridCol w="843120"/>
                <a:gridCol w="838080"/>
                <a:gridCol w="88596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Total Power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13372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rail recovery can be seen here as compared to header rail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s require a much smaller area to achieve the same delay penalty, which can be leveraged when designing DVS circuits, though power savings is less than for the header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3657600"/>
          <a:ext cx="8458200" cy="2187720"/>
        </p:xfrm>
        <a:graphic>
          <a:graphicData uri="http://schemas.openxmlformats.org/drawingml/2006/table">
            <a:tbl>
              <a:tblPr/>
              <a:tblGrid>
                <a:gridCol w="1506600"/>
                <a:gridCol w="976320"/>
                <a:gridCol w="978120"/>
                <a:gridCol w="1029960"/>
                <a:gridCol w="1327320"/>
                <a:gridCol w="865080"/>
                <a:gridCol w="863640"/>
                <a:gridCol w="911160"/>
              </a:tblGrid>
              <a:tr h="3128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Energy 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3429000"/>
          <a:ext cx="4647240" cy="3001320"/>
        </p:xfrm>
        <a:graphic>
          <a:graphicData uri="http://schemas.openxmlformats.org/drawingml/2006/table">
            <a:tbl>
              <a:tblPr/>
              <a:tblGrid>
                <a:gridCol w="1274400"/>
                <a:gridCol w="1699560"/>
                <a:gridCol w="1673280"/>
              </a:tblGrid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ay (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04920" y="1447920"/>
            <a:ext cx="38098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energy overhead is very large in this case of an idle Kogge-Stone ad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ust be taken into account when switching from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ing as a Kn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52680" y="1332000"/>
          <a:ext cx="5791320" cy="27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33200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352680" y="4084560"/>
          <a:ext cx="5791320" cy="2773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08456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5486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724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2286000"/>
            <a:ext cx="3048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the power consumption of a system only using headers versus only using footers shows some interesting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different slopes can be leveraged as separate knobs to achieve greater control over power and wi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4:30Z</dcterms:created>
  <dc:creator>Roy IV</dc:creator>
  <dc:description/>
  <dc:language>en-US</dc:language>
  <cp:lastModifiedBy>Roy Matthews</cp:lastModifiedBy>
  <dcterms:modified xsi:type="dcterms:W3CDTF">2008-12-02T17:53:4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